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73B-3162-4E7A-865C-4D6F65E0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7CB-2228-4305-8807-FD8FB44C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004-E056-460F-9768-22F2B706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32C-9141-4192-9FFD-5748467D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283-E834-4088-8174-6D877CB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17A-B5BD-4567-859F-26C6296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4B1-0981-4591-B61D-F5E0EB1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365-4C0E-4D2D-BE73-E26D4DD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C6E-0254-4F98-8920-C6C34C3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F63-E73C-4963-A14B-B6F2FF6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FA3-B007-41C8-8822-41DDB1F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8A0-70C4-47B3-BC14-B0EED20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245-9CE6-42A0-ACFD-5C198B0A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yaeger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45720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rosthetic Ar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44956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r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480" y="4379760"/>
            <a:ext cx="363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 Play Mu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r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2/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00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Yaeger"/>
          <p:cNvPicPr/>
          <p:nvPr/>
        </p:nvPicPr>
        <p:blipFill>
          <a:blip r:embed="rId1"/>
          <a:stretch/>
        </p:blipFill>
        <p:spPr>
          <a:xfrm>
            <a:off x="304920" y="1981080"/>
            <a:ext cx="8458200" cy="2608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59360" y="514188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Ya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eb.mit.edu/invent/iow/yaeg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5200" y="5105520"/>
            <a:ext cx="43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a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8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yaeg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Prosthetic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This invention has given people without arms an arm that works as if it was a real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oadway"/>
              </a:rPr>
              <a:t>Even though this arm is helpful to people without arms it take a lot of time to get use to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roadway"/>
              </a:rPr>
              <a:t>With this arm, as a person grows they must get the arm fitted every once and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Ivan has made the arm so that the elbow, and the wrist can turn almost all the way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roadway"/>
              </a:rPr>
              <a:t>Ivan aimed to build limbs that would give anyone the basic functions of the wrist, elbow, and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ventor: Ivan Yae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has won numerous awards for science, engineering, leadership, and public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raduated in 1998 from the university of Miami with a degree in buisness management and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stablished Yaeger Innovation Products Corp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invented his own initial line of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8:34:06Z</dcterms:created>
  <dc:creator>install</dc:creator>
  <dc:description/>
  <dc:language>en-US</dc:language>
  <cp:lastModifiedBy>install</cp:lastModifiedBy>
  <dcterms:modified xsi:type="dcterms:W3CDTF">2011-03-11T18:32:49Z</dcterms:modified>
  <cp:revision>12</cp:revision>
  <dc:subject/>
  <dc:title>Slide 1</dc:title>
</cp:coreProperties>
</file>